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D49-F603-4E72-A8E2-74BD1367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807-C22B-41B4-867D-30D2EADC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AE1-C461-4A8E-85D1-81B785CA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474-F244-4370-A90F-2235AB54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FD3-79F0-4569-AE64-466174D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52B-5A9E-4C49-A2D2-3173FDA4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A39-CFFF-4A39-B0FF-F1CD5D6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3B1-452F-4A73-A596-32FF1023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131-BA24-4EE8-AF3C-A27D042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256-833D-4ED1-97B3-6199E94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580-656E-4809-8E24-F30F7D4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0A7-9AC1-4B97-B5E1-E3F6C863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158-7E6E-49F9-94A9-AB133BDD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2236680"/>
            <a:ext cx="84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Refractive Modulators for Coding and Capturing Scene Appearance and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3760" y="4398840"/>
            <a:ext cx="469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ok Veeraragh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esh Ras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kit Mo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Tumb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urier domain, the sensor image corresponds to a slice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49200" y="1550880"/>
            <a:ext cx="6645240" cy="3305160"/>
            <a:chOff x="1249200" y="1550880"/>
            <a:chExt cx="6645240" cy="3305160"/>
          </a:xfrm>
        </p:grpSpPr>
        <p:sp>
          <p:nvSpPr>
            <p:cNvPr id="184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5440" y="191448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013120" y="5018040"/>
            <a:ext cx="51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Light Field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sensor has high bandwidth, it cannot capture the ext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49200" y="1550880"/>
            <a:ext cx="6645240" cy="3575880"/>
            <a:chOff x="1249200" y="1550880"/>
            <a:chExt cx="6645240" cy="3575880"/>
          </a:xfrm>
        </p:grpSpPr>
        <p:sp>
          <p:nvSpPr>
            <p:cNvPr id="203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3160" y="478944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1120" y="1671480"/>
              <a:ext cx="17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 sensor banwid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510160" y="2309760"/>
              <a:ext cx="44928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290320" y="2176200"/>
              <a:ext cx="639720" cy="78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3680" y="1757520"/>
              <a:ext cx="173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 sensor bandwid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7600" y="28728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istribute the energy in 2D light field to 1D sensor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49200" y="1550880"/>
            <a:ext cx="6645240" cy="3575880"/>
            <a:chOff x="1249200" y="1550880"/>
            <a:chExt cx="6645240" cy="3575880"/>
          </a:xfrm>
        </p:grpSpPr>
        <p:sp>
          <p:nvSpPr>
            <p:cNvPr id="225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43160" y="478944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5657000">
              <a:off x="5050440" y="2433240"/>
              <a:ext cx="576360" cy="72540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87840" y="242424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3777000">
              <a:off x="3432240" y="2502360"/>
              <a:ext cx="355680" cy="69084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7960" y="236520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6316800">
              <a:off x="3444480" y="3282120"/>
              <a:ext cx="320760" cy="7653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04840" y="3718080"/>
              <a:ext cx="8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382200">
              <a:off x="5121720" y="3205440"/>
              <a:ext cx="320760" cy="6969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2760" y="342432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47600" y="157320"/>
            <a:ext cx="704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Modulation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pectral copies of 2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48840" y="1498680"/>
            <a:ext cx="6645600" cy="3379680"/>
            <a:chOff x="1248840" y="1498680"/>
            <a:chExt cx="6645600" cy="3379680"/>
          </a:xfrm>
        </p:grpSpPr>
        <p:grpSp>
          <p:nvGrpSpPr>
            <p:cNvPr id="248" name=""/>
            <p:cNvGrpSpPr/>
            <p:nvPr/>
          </p:nvGrpSpPr>
          <p:grpSpPr>
            <a:xfrm>
              <a:off x="3900240" y="2506680"/>
              <a:ext cx="1152360" cy="1406520"/>
              <a:chOff x="3900240" y="2506680"/>
              <a:chExt cx="1152360" cy="1406520"/>
            </a:xfrm>
          </p:grpSpPr>
          <p:sp>
            <p:nvSpPr>
              <p:cNvPr id="249" name=""/>
              <p:cNvSpPr/>
              <p:nvPr/>
            </p:nvSpPr>
            <p:spPr>
              <a:xfrm>
                <a:off x="3900240" y="27860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01680" y="33433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00240" y="25066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00240" y="30639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01680" y="36208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1248840" y="320832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6600" y="161604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9240" y="149868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4000" y="3187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35200" y="212076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0400" y="31352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040" y="336060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518840" y="2362320"/>
              <a:ext cx="5913720" cy="16905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7680" y="3016080"/>
              <a:ext cx="152280" cy="500400"/>
            </a:xfrm>
            <a:prstGeom prst="upArrow">
              <a:avLst>
                <a:gd name="adj1" fmla="val 50000"/>
                <a:gd name="adj2" fmla="val 821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79760" y="27082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1840" y="236232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03560" y="20559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7440" y="4052880"/>
              <a:ext cx="261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39760" y="3706560"/>
              <a:ext cx="115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7520" y="3003480"/>
              <a:ext cx="417060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249200" y="1312920"/>
            <a:ext cx="6645240" cy="3460320"/>
            <a:chOff x="1249200" y="1312920"/>
            <a:chExt cx="6645240" cy="3460320"/>
          </a:xfrm>
        </p:grpSpPr>
        <p:sp>
          <p:nvSpPr>
            <p:cNvPr id="270" name=""/>
            <p:cNvSpPr/>
            <p:nvPr/>
          </p:nvSpPr>
          <p:spPr>
            <a:xfrm flipH="1">
              <a:off x="1249200" y="316080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76600" y="156852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89240" y="1450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6600" y="1312920"/>
              <a:ext cx="20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a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34360" y="313992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35560" y="2073240"/>
              <a:ext cx="61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5200" y="349236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95520" y="3044880"/>
              <a:ext cx="1152360" cy="1406520"/>
              <a:chOff x="1595520" y="3044880"/>
              <a:chExt cx="1152360" cy="1406520"/>
            </a:xfrm>
          </p:grpSpPr>
          <p:sp>
            <p:nvSpPr>
              <p:cNvPr id="278" name=""/>
              <p:cNvSpPr/>
              <p:nvPr/>
            </p:nvSpPr>
            <p:spPr>
              <a:xfrm>
                <a:off x="1595520" y="33242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96960" y="38815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595520" y="30448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95520" y="36021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96960" y="41590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057400" y="33130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747880" y="2752560"/>
              <a:ext cx="1152360" cy="1406520"/>
              <a:chOff x="2747880" y="2752560"/>
              <a:chExt cx="1152360" cy="1406520"/>
            </a:xfrm>
          </p:grpSpPr>
          <p:sp>
            <p:nvSpPr>
              <p:cNvPr id="285" name=""/>
              <p:cNvSpPr/>
              <p:nvPr/>
            </p:nvSpPr>
            <p:spPr>
              <a:xfrm>
                <a:off x="2747880" y="3031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9320" y="3589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7880" y="2752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7880" y="3309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49320" y="3866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217680" y="29685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900600" y="2459160"/>
              <a:ext cx="1152360" cy="1406520"/>
              <a:chOff x="3900600" y="2459160"/>
              <a:chExt cx="1152360" cy="1406520"/>
            </a:xfrm>
          </p:grpSpPr>
          <p:sp>
            <p:nvSpPr>
              <p:cNvPr id="292" name=""/>
              <p:cNvSpPr/>
              <p:nvPr/>
            </p:nvSpPr>
            <p:spPr>
              <a:xfrm>
                <a:off x="3900600" y="2738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02040" y="3295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00600" y="2459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00600" y="3016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02040" y="3573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379760" y="26607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5051520" y="2176560"/>
              <a:ext cx="1152360" cy="1406520"/>
              <a:chOff x="5051520" y="2176560"/>
              <a:chExt cx="1152360" cy="1406520"/>
            </a:xfrm>
          </p:grpSpPr>
          <p:sp>
            <p:nvSpPr>
              <p:cNvPr id="299" name=""/>
              <p:cNvSpPr/>
              <p:nvPr/>
            </p:nvSpPr>
            <p:spPr>
              <a:xfrm>
                <a:off x="5051520" y="2455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52960" y="3013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51520" y="2176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51520" y="2733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52960" y="3290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203880" y="1892160"/>
              <a:ext cx="1152360" cy="1406520"/>
              <a:chOff x="6203880" y="1892160"/>
              <a:chExt cx="1152360" cy="1406520"/>
            </a:xfrm>
          </p:grpSpPr>
          <p:sp>
            <p:nvSpPr>
              <p:cNvPr id="305" name=""/>
              <p:cNvSpPr/>
              <p:nvPr/>
            </p:nvSpPr>
            <p:spPr>
              <a:xfrm>
                <a:off x="6203880" y="2171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05320" y="2728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03880" y="1892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03880" y="2449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205320" y="3006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1519200" y="2314080"/>
              <a:ext cx="5913360" cy="169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1840" y="231444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3920" y="200808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97480" y="3745080"/>
              <a:ext cx="14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127560" y="3352320"/>
              <a:ext cx="42228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19200" y="29685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0120" y="4192560"/>
              <a:ext cx="192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401560" y="3774600"/>
              <a:ext cx="46044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47600" y="20016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that the sensor slice can capture the entire light fiel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1320" y="513864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, but at least some copies produced via modulation are sensed by the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00120" y="276120"/>
            <a:ext cx="614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cover light field from sensor sl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ha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Fouri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614600" y="1893960"/>
            <a:ext cx="5913360" cy="3071880"/>
            <a:chOff x="1614600" y="1893960"/>
            <a:chExt cx="5913360" cy="3071880"/>
          </a:xfrm>
        </p:grpSpPr>
        <p:sp>
          <p:nvSpPr>
            <p:cNvPr id="322" name=""/>
            <p:cNvSpPr/>
            <p:nvPr/>
          </p:nvSpPr>
          <p:spPr>
            <a:xfrm>
              <a:off x="2843280" y="1941480"/>
              <a:ext cx="11509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9120" y="19414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4600" y="18939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0560" y="2398680"/>
              <a:ext cx="1440" cy="256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87880" y="232272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088800" y="3675240"/>
              <a:ext cx="296388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16600" y="323712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95640" y="194148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48360" y="194148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00720" y="1941480"/>
              <a:ext cx="1150920" cy="29232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995640" y="2978280"/>
              <a:ext cx="1150920" cy="1406520"/>
              <a:chOff x="3995640" y="2978280"/>
              <a:chExt cx="1150920" cy="1406520"/>
            </a:xfrm>
          </p:grpSpPr>
          <p:sp>
            <p:nvSpPr>
              <p:cNvPr id="333" name=""/>
              <p:cNvSpPr/>
              <p:nvPr/>
            </p:nvSpPr>
            <p:spPr>
              <a:xfrm>
                <a:off x="3995640" y="3257640"/>
                <a:ext cx="1150920" cy="2923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95640" y="38149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95640" y="2978280"/>
                <a:ext cx="1150920" cy="29232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95640" y="35355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95640" y="4092840"/>
                <a:ext cx="1150920" cy="29196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687920" y="2238480"/>
              <a:ext cx="768240" cy="1420920"/>
            </a:xfrm>
            <a:custGeom>
              <a:avLst/>
              <a:gdLst/>
              <a:ahLst/>
              <a:rect l="l" t="t" r="r" b="b"/>
              <a:pathLst>
                <a:path w="1133" h="1912">
                  <a:moveTo>
                    <a:pt x="0" y="0"/>
                  </a:moveTo>
                  <a:cubicBezTo>
                    <a:pt x="473" y="373"/>
                    <a:pt x="947" y="746"/>
                    <a:pt x="1040" y="1065"/>
                  </a:cubicBezTo>
                  <a:cubicBezTo>
                    <a:pt x="1133" y="1384"/>
                    <a:pt x="645" y="1775"/>
                    <a:pt x="556" y="19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109480" y="2278080"/>
              <a:ext cx="2227320" cy="19191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3320" y="2278080"/>
              <a:ext cx="690480" cy="115092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76480" y="2278080"/>
              <a:ext cx="1996920" cy="8445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109480" y="2278080"/>
              <a:ext cx="920520" cy="172728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0640" y="3770280"/>
              <a:ext cx="130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over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47600" y="1573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: Modulate the light field using a set of slanted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248840" y="1498680"/>
            <a:ext cx="6645600" cy="3305160"/>
            <a:chOff x="1248840" y="1498680"/>
            <a:chExt cx="6645600" cy="3305160"/>
          </a:xfrm>
        </p:grpSpPr>
        <p:grpSp>
          <p:nvGrpSpPr>
            <p:cNvPr id="346" name=""/>
            <p:cNvGrpSpPr/>
            <p:nvPr/>
          </p:nvGrpSpPr>
          <p:grpSpPr>
            <a:xfrm>
              <a:off x="3900240" y="2506680"/>
              <a:ext cx="1152360" cy="1406520"/>
              <a:chOff x="3900240" y="2506680"/>
              <a:chExt cx="1152360" cy="1406520"/>
            </a:xfrm>
          </p:grpSpPr>
          <p:sp>
            <p:nvSpPr>
              <p:cNvPr id="347" name=""/>
              <p:cNvSpPr/>
              <p:nvPr/>
            </p:nvSpPr>
            <p:spPr>
              <a:xfrm>
                <a:off x="3900240" y="27860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01680" y="33433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00240" y="25066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00240" y="30639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01680" y="36208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1248840" y="320832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6600" y="161604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89240" y="149868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34000" y="3187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35200" y="212076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00400" y="31352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040" y="336060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518840" y="2362320"/>
              <a:ext cx="5913720" cy="16905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7680" y="3016080"/>
              <a:ext cx="152280" cy="500400"/>
            </a:xfrm>
            <a:prstGeom prst="upArrow">
              <a:avLst>
                <a:gd name="adj1" fmla="val 50000"/>
                <a:gd name="adj2" fmla="val 821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79760" y="27082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41840" y="236232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3560" y="20559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47440" y="4052880"/>
              <a:ext cx="26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2939760" y="3706560"/>
              <a:ext cx="115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47520" y="3003480"/>
              <a:ext cx="417060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335240" y="5037120"/>
            <a:ext cx="65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signing the correct set of impulses compared to a train of impulses in the Pinhole design this camera is very light energy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47600" y="1573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modulation can be achieved by simply placing a mask inside the camera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7000" y="1998720"/>
            <a:ext cx="7836840" cy="2186640"/>
            <a:chOff x="297000" y="1998720"/>
            <a:chExt cx="7836840" cy="2186640"/>
          </a:xfrm>
        </p:grpSpPr>
        <p:sp>
          <p:nvSpPr>
            <p:cNvPr id="370" name=""/>
            <p:cNvSpPr/>
            <p:nvPr/>
          </p:nvSpPr>
          <p:spPr>
            <a:xfrm>
              <a:off x="4243320" y="2358720"/>
              <a:ext cx="3433320" cy="11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82560" y="2358360"/>
              <a:ext cx="35604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8000" y="2815920"/>
              <a:ext cx="350496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43320" y="3481200"/>
              <a:ext cx="3433320" cy="63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8880" y="2815920"/>
              <a:ext cx="691776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169160" y="2361600"/>
              <a:ext cx="151200" cy="1769400"/>
              <a:chOff x="4169160" y="2361600"/>
              <a:chExt cx="151200" cy="176940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4169160" y="236124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69160" y="237312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68800" y="2347200"/>
              <a:ext cx="150480" cy="1770120"/>
              <a:chOff x="4168800" y="2347200"/>
              <a:chExt cx="150480" cy="1770120"/>
            </a:xfrm>
          </p:grpSpPr>
          <p:sp>
            <p:nvSpPr>
              <p:cNvPr id="379" name=""/>
              <p:cNvSpPr/>
              <p:nvPr/>
            </p:nvSpPr>
            <p:spPr>
              <a:xfrm flipH="1" flipV="1">
                <a:off x="4168800" y="2346840"/>
                <a:ext cx="15048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168800" y="2358720"/>
                <a:ext cx="15048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578040" y="1998720"/>
              <a:ext cx="1409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77000" y="2365200"/>
              <a:ext cx="0" cy="174744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000" y="199872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96960" y="2358360"/>
              <a:ext cx="0" cy="18270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080040" y="2014560"/>
              <a:ext cx="744120" cy="2054520"/>
              <a:chOff x="6080040" y="2014560"/>
              <a:chExt cx="744120" cy="20545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474960" y="2395440"/>
                <a:ext cx="0" cy="1673640"/>
                <a:chOff x="6474960" y="2395440"/>
                <a:chExt cx="0" cy="16736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474960" y="239544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74960" y="264636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74960" y="390168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74960" y="331596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74960" y="298116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74960" y="356724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080040" y="2014560"/>
                <a:ext cx="744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219800" y="20145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448240" y="43578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477120" y="3613320"/>
            <a:ext cx="1195200" cy="487800"/>
            <a:chOff x="6477120" y="3613320"/>
            <a:chExt cx="1195200" cy="487800"/>
          </a:xfrm>
        </p:grpSpPr>
        <p:sp>
          <p:nvSpPr>
            <p:cNvPr id="397" name=""/>
            <p:cNvSpPr/>
            <p:nvPr/>
          </p:nvSpPr>
          <p:spPr>
            <a:xfrm>
              <a:off x="6477120" y="403056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68800" y="3613320"/>
              <a:ext cx="533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05160" y="3830760"/>
            <a:ext cx="3483000" cy="487800"/>
            <a:chOff x="4205160" y="3830760"/>
            <a:chExt cx="3483000" cy="487800"/>
          </a:xfrm>
        </p:grpSpPr>
        <p:sp>
          <p:nvSpPr>
            <p:cNvPr id="400" name=""/>
            <p:cNvSpPr/>
            <p:nvPr/>
          </p:nvSpPr>
          <p:spPr>
            <a:xfrm>
              <a:off x="4205160" y="421956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52920" y="383076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47600" y="15732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primal and Fouri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52320" y="787320"/>
            <a:ext cx="7837560" cy="2187720"/>
            <a:chOff x="652320" y="787320"/>
            <a:chExt cx="7837560" cy="2187720"/>
          </a:xfrm>
        </p:grpSpPr>
        <p:sp>
          <p:nvSpPr>
            <p:cNvPr id="404" name=""/>
            <p:cNvSpPr/>
            <p:nvPr/>
          </p:nvSpPr>
          <p:spPr>
            <a:xfrm>
              <a:off x="4599000" y="1147680"/>
              <a:ext cx="343368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038240" y="114768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93680" y="1604880"/>
              <a:ext cx="350532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599000" y="2269800"/>
              <a:ext cx="343368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4560" y="1604880"/>
              <a:ext cx="691812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524840" y="1150560"/>
              <a:ext cx="151200" cy="1770120"/>
              <a:chOff x="4524840" y="1150560"/>
              <a:chExt cx="151200" cy="1770120"/>
            </a:xfrm>
          </p:grpSpPr>
          <p:sp>
            <p:nvSpPr>
              <p:cNvPr id="410" name=""/>
              <p:cNvSpPr/>
              <p:nvPr/>
            </p:nvSpPr>
            <p:spPr>
              <a:xfrm flipV="1">
                <a:off x="4524840" y="115020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24840" y="11620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524480" y="1136160"/>
              <a:ext cx="151200" cy="1770120"/>
              <a:chOff x="4524480" y="1136160"/>
              <a:chExt cx="151200" cy="1770120"/>
            </a:xfrm>
          </p:grpSpPr>
          <p:sp>
            <p:nvSpPr>
              <p:cNvPr id="413" name=""/>
              <p:cNvSpPr/>
              <p:nvPr/>
            </p:nvSpPr>
            <p:spPr>
              <a:xfrm flipH="1" flipV="1">
                <a:off x="4524480" y="113580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524480" y="11476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3933720" y="78732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32680" y="115416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2320" y="787320"/>
              <a:ext cx="916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052640" y="114768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435720" y="803520"/>
              <a:ext cx="744480" cy="2054880"/>
              <a:chOff x="6435720" y="803520"/>
              <a:chExt cx="744480" cy="20548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6831000" y="1184400"/>
                <a:ext cx="0" cy="1674000"/>
                <a:chOff x="6831000" y="1184400"/>
                <a:chExt cx="0" cy="16740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831000" y="11844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831000" y="143532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831000" y="26910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31000" y="210528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31000" y="17701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831000" y="23562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6435720" y="80352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575480" y="80352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248840" y="3494160"/>
            <a:ext cx="6645600" cy="3305160"/>
            <a:chOff x="1248840" y="3494160"/>
            <a:chExt cx="6645600" cy="3305160"/>
          </a:xfrm>
        </p:grpSpPr>
        <p:grpSp>
          <p:nvGrpSpPr>
            <p:cNvPr id="430" name=""/>
            <p:cNvGrpSpPr/>
            <p:nvPr/>
          </p:nvGrpSpPr>
          <p:grpSpPr>
            <a:xfrm>
              <a:off x="1248840" y="3494160"/>
              <a:ext cx="6645600" cy="3305160"/>
              <a:chOff x="1248840" y="3494160"/>
              <a:chExt cx="6645600" cy="33051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3900240" y="4502160"/>
                <a:ext cx="1152360" cy="1406520"/>
                <a:chOff x="3900240" y="4502160"/>
                <a:chExt cx="1152360" cy="1406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900240" y="4781520"/>
                  <a:ext cx="1150920" cy="291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901680" y="5338800"/>
                  <a:ext cx="1150920" cy="291960"/>
                </a:xfrm>
                <a:prstGeom prst="rect">
                  <a:avLst/>
                </a:prstGeom>
                <a:solidFill>
                  <a:srgbClr val="008cd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900240" y="4502160"/>
                  <a:ext cx="1150920" cy="291960"/>
                </a:xfrm>
                <a:prstGeom prst="rect">
                  <a:avLst/>
                </a:prstGeom>
                <a:solidFill>
                  <a:srgbClr val="c3e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00240" y="5059440"/>
                  <a:ext cx="1150920" cy="291960"/>
                </a:xfrm>
                <a:prstGeom prst="rect">
                  <a:avLst/>
                </a:prstGeom>
                <a:solidFill>
                  <a:srgbClr val="39bd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01680" y="5616360"/>
                  <a:ext cx="1150920" cy="292320"/>
                </a:xfrm>
                <a:prstGeom prst="rect">
                  <a:avLst/>
                </a:prstGeom>
                <a:solidFill>
                  <a:srgbClr val="0044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 flipH="1">
                <a:off x="1248840" y="5203800"/>
                <a:ext cx="64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76600" y="3611520"/>
                <a:ext cx="0" cy="318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89240" y="3494160"/>
                <a:ext cx="46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34000" y="5183280"/>
                <a:ext cx="460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35200" y="4116240"/>
                <a:ext cx="61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0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00400" y="5130720"/>
                <a:ext cx="576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x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57040" y="535608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518840" y="4357800"/>
                <a:ext cx="5913720" cy="16905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217680" y="5011560"/>
                <a:ext cx="152280" cy="500400"/>
              </a:xfrm>
              <a:prstGeom prst="upArrow">
                <a:avLst>
                  <a:gd name="adj1" fmla="val 50000"/>
                  <a:gd name="adj2" fmla="val 8215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79760" y="470376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41840" y="435780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3560" y="405144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47440" y="6048360"/>
                <a:ext cx="261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Arial"/>
                  </a:rPr>
                  <a:t>Mask Modulation Fun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2939760" y="5702040"/>
                <a:ext cx="115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644800" y="4870440"/>
              <a:ext cx="138240" cy="26820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48" y="411"/>
                  </a:moveTo>
                  <a:cubicBezTo>
                    <a:pt x="66" y="388"/>
                    <a:pt x="84" y="366"/>
                    <a:pt x="96" y="338"/>
                  </a:cubicBezTo>
                  <a:cubicBezTo>
                    <a:pt x="108" y="310"/>
                    <a:pt x="117" y="270"/>
                    <a:pt x="121" y="242"/>
                  </a:cubicBezTo>
                  <a:cubicBezTo>
                    <a:pt x="125" y="214"/>
                    <a:pt x="125" y="193"/>
                    <a:pt x="121" y="169"/>
                  </a:cubicBezTo>
                  <a:cubicBezTo>
                    <a:pt x="117" y="145"/>
                    <a:pt x="108" y="116"/>
                    <a:pt x="96" y="96"/>
                  </a:cubicBezTo>
                  <a:cubicBezTo>
                    <a:pt x="84" y="76"/>
                    <a:pt x="64" y="64"/>
                    <a:pt x="48" y="48"/>
                  </a:cubicBezTo>
                  <a:cubicBezTo>
                    <a:pt x="32" y="32"/>
                    <a:pt x="8" y="4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81240" y="4759200"/>
              <a:ext cx="3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17840" y="31370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494400" y="2401920"/>
            <a:ext cx="1195560" cy="487800"/>
            <a:chOff x="6494400" y="2401920"/>
            <a:chExt cx="1195560" cy="487800"/>
          </a:xfrm>
        </p:grpSpPr>
        <p:sp>
          <p:nvSpPr>
            <p:cNvPr id="455" name=""/>
            <p:cNvSpPr/>
            <p:nvPr/>
          </p:nvSpPr>
          <p:spPr>
            <a:xfrm>
              <a:off x="6494400" y="2819160"/>
              <a:ext cx="119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86440" y="240192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222800" y="2619360"/>
            <a:ext cx="3483000" cy="487800"/>
            <a:chOff x="4222800" y="2619360"/>
            <a:chExt cx="3483000" cy="487800"/>
          </a:xfrm>
        </p:grpSpPr>
        <p:sp>
          <p:nvSpPr>
            <p:cNvPr id="458" name=""/>
            <p:cNvSpPr/>
            <p:nvPr/>
          </p:nvSpPr>
          <p:spPr>
            <a:xfrm>
              <a:off x="4222800" y="300816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70560" y="261936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27000" y="157320"/>
            <a:ext cx="728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mask location is given by alpha, depends on f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52320" y="1033560"/>
            <a:ext cx="7837560" cy="2186640"/>
            <a:chOff x="652320" y="1033560"/>
            <a:chExt cx="7837560" cy="2186640"/>
          </a:xfrm>
        </p:grpSpPr>
        <p:sp>
          <p:nvSpPr>
            <p:cNvPr id="462" name=""/>
            <p:cNvSpPr/>
            <p:nvPr/>
          </p:nvSpPr>
          <p:spPr>
            <a:xfrm>
              <a:off x="4599000" y="1393560"/>
              <a:ext cx="3433680" cy="11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038240" y="1393200"/>
              <a:ext cx="356076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93680" y="1850760"/>
              <a:ext cx="35053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99000" y="2516040"/>
              <a:ext cx="3433680" cy="63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14560" y="1850760"/>
              <a:ext cx="691812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524840" y="1396440"/>
              <a:ext cx="151200" cy="1769400"/>
              <a:chOff x="4524840" y="1396440"/>
              <a:chExt cx="151200" cy="1769400"/>
            </a:xfrm>
          </p:grpSpPr>
          <p:sp>
            <p:nvSpPr>
              <p:cNvPr id="468" name=""/>
              <p:cNvSpPr/>
              <p:nvPr/>
            </p:nvSpPr>
            <p:spPr>
              <a:xfrm flipV="1">
                <a:off x="4524840" y="139608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24840" y="140796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524480" y="1382040"/>
              <a:ext cx="151200" cy="1770120"/>
              <a:chOff x="4524480" y="1382040"/>
              <a:chExt cx="151200" cy="1770120"/>
            </a:xfrm>
          </p:grpSpPr>
          <p:sp>
            <p:nvSpPr>
              <p:cNvPr id="471" name=""/>
              <p:cNvSpPr/>
              <p:nvPr/>
            </p:nvSpPr>
            <p:spPr>
              <a:xfrm flipH="1" flipV="1">
                <a:off x="4524480" y="13816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4524480" y="139356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933720" y="10335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2680" y="1400040"/>
              <a:ext cx="0" cy="174744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2320" y="1033560"/>
              <a:ext cx="916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052640" y="1393200"/>
              <a:ext cx="0" cy="18270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35720" y="1049400"/>
              <a:ext cx="744480" cy="2054520"/>
              <a:chOff x="6435720" y="1049400"/>
              <a:chExt cx="744480" cy="20545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6831000" y="1430280"/>
                <a:ext cx="0" cy="1673640"/>
                <a:chOff x="6831000" y="1430280"/>
                <a:chExt cx="0" cy="16736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831000" y="143028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831000" y="16812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831000" y="293652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831000" y="23508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831000" y="20160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831000" y="260208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435720" y="104940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7575480" y="10494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248840" y="3494160"/>
            <a:ext cx="6645600" cy="3305160"/>
            <a:chOff x="1248840" y="3494160"/>
            <a:chExt cx="6645600" cy="3305160"/>
          </a:xfrm>
        </p:grpSpPr>
        <p:grpSp>
          <p:nvGrpSpPr>
            <p:cNvPr id="488" name=""/>
            <p:cNvGrpSpPr/>
            <p:nvPr/>
          </p:nvGrpSpPr>
          <p:grpSpPr>
            <a:xfrm>
              <a:off x="1248840" y="3494160"/>
              <a:ext cx="6645600" cy="3305160"/>
              <a:chOff x="1248840" y="3494160"/>
              <a:chExt cx="6645600" cy="330516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900240" y="4502160"/>
                <a:ext cx="1152360" cy="1406520"/>
                <a:chOff x="3900240" y="4502160"/>
                <a:chExt cx="1152360" cy="14065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900240" y="4781520"/>
                  <a:ext cx="1150920" cy="291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01680" y="5338800"/>
                  <a:ext cx="1150920" cy="291960"/>
                </a:xfrm>
                <a:prstGeom prst="rect">
                  <a:avLst/>
                </a:prstGeom>
                <a:solidFill>
                  <a:srgbClr val="008cd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00240" y="4502160"/>
                  <a:ext cx="1150920" cy="291960"/>
                </a:xfrm>
                <a:prstGeom prst="rect">
                  <a:avLst/>
                </a:prstGeom>
                <a:solidFill>
                  <a:srgbClr val="c3e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00240" y="5059440"/>
                  <a:ext cx="1150920" cy="291960"/>
                </a:xfrm>
                <a:prstGeom prst="rect">
                  <a:avLst/>
                </a:prstGeom>
                <a:solidFill>
                  <a:srgbClr val="39bd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01680" y="5616360"/>
                  <a:ext cx="1150920" cy="292320"/>
                </a:xfrm>
                <a:prstGeom prst="rect">
                  <a:avLst/>
                </a:prstGeom>
                <a:solidFill>
                  <a:srgbClr val="0044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flipH="1">
                <a:off x="1248840" y="5203800"/>
                <a:ext cx="64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76600" y="3611520"/>
                <a:ext cx="0" cy="318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89240" y="3494160"/>
                <a:ext cx="46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34000" y="5183280"/>
                <a:ext cx="460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35200" y="4116240"/>
                <a:ext cx="61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0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00400" y="5130720"/>
                <a:ext cx="576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x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57040" y="535608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1518840" y="4357800"/>
                <a:ext cx="5913720" cy="16905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17680" y="5011560"/>
                <a:ext cx="152280" cy="500400"/>
              </a:xfrm>
              <a:prstGeom prst="upArrow">
                <a:avLst>
                  <a:gd name="adj1" fmla="val 50000"/>
                  <a:gd name="adj2" fmla="val 8215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79760" y="470376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41840" y="435780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03560" y="405144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7440" y="6048360"/>
                <a:ext cx="261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Arial"/>
                  </a:rPr>
                  <a:t>Mask Modulation Fun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2939760" y="5702040"/>
                <a:ext cx="115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644800" y="4870440"/>
              <a:ext cx="138240" cy="26820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48" y="411"/>
                  </a:moveTo>
                  <a:cubicBezTo>
                    <a:pt x="66" y="388"/>
                    <a:pt x="84" y="366"/>
                    <a:pt x="96" y="338"/>
                  </a:cubicBezTo>
                  <a:cubicBezTo>
                    <a:pt x="108" y="310"/>
                    <a:pt x="117" y="270"/>
                    <a:pt x="121" y="242"/>
                  </a:cubicBezTo>
                  <a:cubicBezTo>
                    <a:pt x="125" y="214"/>
                    <a:pt x="125" y="193"/>
                    <a:pt x="121" y="169"/>
                  </a:cubicBezTo>
                  <a:cubicBezTo>
                    <a:pt x="117" y="145"/>
                    <a:pt x="108" y="116"/>
                    <a:pt x="96" y="96"/>
                  </a:cubicBezTo>
                  <a:cubicBezTo>
                    <a:pt x="84" y="76"/>
                    <a:pt x="64" y="64"/>
                    <a:pt x="48" y="48"/>
                  </a:cubicBezTo>
                  <a:cubicBezTo>
                    <a:pt x="32" y="32"/>
                    <a:pt x="8" y="4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81240" y="4759200"/>
              <a:ext cx="3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49440" y="339264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94400" y="2647800"/>
            <a:ext cx="1195560" cy="487800"/>
            <a:chOff x="6494400" y="2647800"/>
            <a:chExt cx="1195560" cy="487800"/>
          </a:xfrm>
        </p:grpSpPr>
        <p:sp>
          <p:nvSpPr>
            <p:cNvPr id="513" name=""/>
            <p:cNvSpPr/>
            <p:nvPr/>
          </p:nvSpPr>
          <p:spPr>
            <a:xfrm>
              <a:off x="6494400" y="3065400"/>
              <a:ext cx="119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86440" y="264780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222800" y="2865600"/>
            <a:ext cx="3483000" cy="487800"/>
            <a:chOff x="4222800" y="2865600"/>
            <a:chExt cx="3483000" cy="487800"/>
          </a:xfrm>
        </p:grpSpPr>
        <p:sp>
          <p:nvSpPr>
            <p:cNvPr id="516" name=""/>
            <p:cNvSpPr/>
            <p:nvPr/>
          </p:nvSpPr>
          <p:spPr>
            <a:xfrm>
              <a:off x="4222800" y="325440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70560" y="286560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538440" y="4484520"/>
            <a:ext cx="152640" cy="270000"/>
          </a:xfrm>
          <a:custGeom>
            <a:avLst/>
            <a:gdLst>
              <a:gd name="textAreaLeft" fmla="*/ 97560 w 152640"/>
              <a:gd name="textAreaRight" fmla="*/ 153000 w 152640"/>
              <a:gd name="textAreaTop" fmla="*/ 6840 h 270000"/>
              <a:gd name="textAreaBottom" fmla="*/ 263160 h 2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54320" y="42544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63400" y="2039760"/>
            <a:ext cx="8016840" cy="2595240"/>
            <a:chOff x="563400" y="2039760"/>
            <a:chExt cx="8016840" cy="2595240"/>
          </a:xfrm>
        </p:grpSpPr>
        <p:sp>
          <p:nvSpPr>
            <p:cNvPr id="44" name=""/>
            <p:cNvSpPr/>
            <p:nvPr/>
          </p:nvSpPr>
          <p:spPr>
            <a:xfrm>
              <a:off x="4509720" y="24001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48960" y="24001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04760" y="28573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509720" y="35222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25280" y="28573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437000" y="2380680"/>
              <a:ext cx="151560" cy="1784520"/>
              <a:chOff x="4437000" y="2380680"/>
              <a:chExt cx="151560" cy="178452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437360" y="2395080"/>
                <a:ext cx="151200" cy="1770120"/>
                <a:chOff x="4437360" y="2395080"/>
                <a:chExt cx="151200" cy="1770120"/>
              </a:xfrm>
            </p:grpSpPr>
            <p:sp>
              <p:nvSpPr>
                <p:cNvPr id="51" name=""/>
                <p:cNvSpPr/>
                <p:nvPr/>
              </p:nvSpPr>
              <p:spPr>
                <a:xfrm flipV="1">
                  <a:off x="4437360" y="23947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437360" y="24066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4437000" y="2380680"/>
                <a:ext cx="151200" cy="1770120"/>
                <a:chOff x="4437000" y="2380680"/>
                <a:chExt cx="151200" cy="1770120"/>
              </a:xfrm>
            </p:grpSpPr>
            <p:sp>
              <p:nvSpPr>
                <p:cNvPr id="54" name=""/>
                <p:cNvSpPr/>
                <p:nvPr/>
              </p:nvSpPr>
              <p:spPr>
                <a:xfrm flipH="1" flipV="1">
                  <a:off x="4437000" y="23803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4437000" y="23922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"/>
            <p:cNvSpPr/>
            <p:nvPr/>
          </p:nvSpPr>
          <p:spPr>
            <a:xfrm>
              <a:off x="3844800" y="20397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43760" y="24066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400" y="20397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63360" y="24001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18000" y="2055600"/>
              <a:ext cx="136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D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4560" y="4106880"/>
              <a:ext cx="1623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360" rIns="162360" tIns="81000" bIns="81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22520"/>
                  <a:tab algn="l" pos="3244680"/>
                  <a:tab algn="l" pos="4867200"/>
                  <a:tab algn="l" pos="6489720"/>
                  <a:tab algn="l" pos="8112240"/>
                  <a:tab algn="l" pos="9734400"/>
                </a:tabLst>
              </a:pPr>
              <a:r>
                <a:rPr b="0" i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81640" y="4043160"/>
              <a:ext cx="12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i="1" lang="en-US" sz="2400" spc="-1" strike="noStrike">
                  <a:solidFill>
                    <a:srgbClr val="66ccff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66ccff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84280" y="357120"/>
            <a:ext cx="79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y -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0840" y="1278000"/>
            <a:ext cx="48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76800" y="1374840"/>
            <a:ext cx="59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lane parameterization of 2D light field l(x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31840" y="486252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magine we could attenuate each ray independently before its capture at the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nHole Array in Frequenc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9360" y="1585800"/>
            <a:ext cx="4486320" cy="42800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716360" y="1436760"/>
            <a:ext cx="44276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-limited light-field is shown in (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ier Transform of a train of impulses is a train of impulses as shown in Figure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ulse produces a copy of the band-limited light-field as shown in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ated light-field is shown in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sor takes a slice of the modulated light-field as shown by the yellow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inefficient since several copies of the light-field produced via modulation are not sensed by the sensor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23920" y="2236680"/>
            <a:ext cx="869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terodyne Light Field 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-hole array camera lets in very littl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energy inefficient since several copies of the light-field produced via modulation are not sensed by the sensor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olution: make limite number of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1249200" y="1312920"/>
            <a:ext cx="6645240" cy="3460320"/>
            <a:chOff x="1249200" y="1312920"/>
            <a:chExt cx="6645240" cy="3460320"/>
          </a:xfrm>
        </p:grpSpPr>
        <p:sp>
          <p:nvSpPr>
            <p:cNvPr id="525" name=""/>
            <p:cNvSpPr/>
            <p:nvPr/>
          </p:nvSpPr>
          <p:spPr>
            <a:xfrm flipH="1">
              <a:off x="1249200" y="316080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76600" y="156852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89240" y="1450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76600" y="1312920"/>
              <a:ext cx="20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a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4360" y="313992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35560" y="2073240"/>
              <a:ext cx="61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75200" y="349236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595520" y="3044880"/>
              <a:ext cx="1152360" cy="1406520"/>
              <a:chOff x="1595520" y="3044880"/>
              <a:chExt cx="1152360" cy="1406520"/>
            </a:xfrm>
          </p:grpSpPr>
          <p:sp>
            <p:nvSpPr>
              <p:cNvPr id="533" name=""/>
              <p:cNvSpPr/>
              <p:nvPr/>
            </p:nvSpPr>
            <p:spPr>
              <a:xfrm>
                <a:off x="1595520" y="33242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596960" y="38815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595520" y="30448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95520" y="36021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96960" y="41590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057400" y="33130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747880" y="2752560"/>
              <a:ext cx="1152360" cy="1406520"/>
              <a:chOff x="2747880" y="2752560"/>
              <a:chExt cx="1152360" cy="140652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7880" y="3031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49320" y="3589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47880" y="2752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47880" y="3309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49320" y="3866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217680" y="29685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900600" y="2459160"/>
              <a:ext cx="1152360" cy="1406520"/>
              <a:chOff x="3900600" y="2459160"/>
              <a:chExt cx="1152360" cy="1406520"/>
            </a:xfrm>
          </p:grpSpPr>
          <p:sp>
            <p:nvSpPr>
              <p:cNvPr id="547" name=""/>
              <p:cNvSpPr/>
              <p:nvPr/>
            </p:nvSpPr>
            <p:spPr>
              <a:xfrm>
                <a:off x="3900600" y="2738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02040" y="3295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900600" y="2459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00600" y="3016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02040" y="3573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4379760" y="26607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051520" y="2176560"/>
              <a:ext cx="1152360" cy="1406520"/>
              <a:chOff x="5051520" y="2176560"/>
              <a:chExt cx="1152360" cy="1406520"/>
            </a:xfrm>
          </p:grpSpPr>
          <p:sp>
            <p:nvSpPr>
              <p:cNvPr id="554" name=""/>
              <p:cNvSpPr/>
              <p:nvPr/>
            </p:nvSpPr>
            <p:spPr>
              <a:xfrm>
                <a:off x="5051520" y="2455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052960" y="3013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51520" y="2176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51520" y="2733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52960" y="3290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203880" y="1892160"/>
              <a:ext cx="1152360" cy="1406520"/>
              <a:chOff x="6203880" y="1892160"/>
              <a:chExt cx="1152360" cy="140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6203880" y="2171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5320" y="2728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03880" y="1892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03880" y="2449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05320" y="3006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V="1">
              <a:off x="1519200" y="2314080"/>
              <a:ext cx="5913360" cy="169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1840" y="231444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03920" y="200808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97480" y="3745080"/>
              <a:ext cx="14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127560" y="3352320"/>
              <a:ext cx="42228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9200" y="29685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0120" y="4192560"/>
              <a:ext cx="192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2401560" y="3774600"/>
              <a:ext cx="46044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03440" y="200160"/>
            <a:ext cx="81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nly a limited copies of the bandlimited light fiel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1320" y="513864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efficient since every one of the copies produced via modulation is sensed by the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ampling of Light-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band-limit function is not necessarily rectangular but is arbitrarily shaped. Can we design a modulator that can optimally sample this light-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3886200" y="2286000"/>
            <a:ext cx="1447560" cy="1434960"/>
            <a:chOff x="3886200" y="2286000"/>
            <a:chExt cx="1447560" cy="1434960"/>
          </a:xfrm>
        </p:grpSpPr>
        <p:sp>
          <p:nvSpPr>
            <p:cNvPr id="578" name=""/>
            <p:cNvSpPr/>
            <p:nvPr/>
          </p:nvSpPr>
          <p:spPr>
            <a:xfrm>
              <a:off x="4100400" y="3124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29000" y="3429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52680" y="2286000"/>
              <a:ext cx="60984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4800" y="257796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86200" y="2806560"/>
              <a:ext cx="144756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114800" y="2590920"/>
            <a:ext cx="990720" cy="29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124080"/>
            <a:ext cx="914400" cy="292320"/>
          </a:xfrm>
          <a:prstGeom prst="rect">
            <a:avLst/>
          </a:prstGeom>
          <a:solidFill>
            <a:srgbClr val="008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2819520"/>
            <a:ext cx="1447920" cy="29196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3429000"/>
            <a:ext cx="533520" cy="29196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1295280"/>
            <a:ext cx="46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297180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38640" y="31845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02160" y="250524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4984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odulation Function with mask optimized to the shape of the bandwidth of the light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47760" y="3429000"/>
            <a:ext cx="1522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562720" y="274284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3434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476760" y="251460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53080" y="3687840"/>
            <a:ext cx="1828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2590920"/>
            <a:ext cx="990720" cy="29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2819520"/>
            <a:ext cx="1447920" cy="29196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1752480"/>
            <a:ext cx="61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3429000"/>
            <a:ext cx="533520" cy="29196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07280" y="19810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645160" y="217656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02160" y="2523960"/>
            <a:ext cx="152280" cy="500400"/>
          </a:xfrm>
          <a:prstGeom prst="upArrow">
            <a:avLst>
              <a:gd name="adj1" fmla="val 50000"/>
              <a:gd name="adj2" fmla="val 821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00400" y="27766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38280" y="30052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209680"/>
            <a:ext cx="5867280" cy="15242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371600" y="2971800"/>
            <a:ext cx="6453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1447920"/>
            <a:ext cx="0" cy="3187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2819520"/>
            <a:ext cx="4952880" cy="30456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1905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105160" y="1905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7524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87656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29200" y="129528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65160" y="388800"/>
            <a:ext cx="74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-Limit shape is Arbit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1600200" y="3429000"/>
            <a:ext cx="1447920" cy="1434960"/>
            <a:chOff x="1600200" y="3429000"/>
            <a:chExt cx="1447920" cy="1434960"/>
          </a:xfrm>
        </p:grpSpPr>
        <p:sp>
          <p:nvSpPr>
            <p:cNvPr id="626" name=""/>
            <p:cNvSpPr/>
            <p:nvPr/>
          </p:nvSpPr>
          <p:spPr>
            <a:xfrm>
              <a:off x="1814400" y="4267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43000" y="4572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67040" y="342900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28800" y="372096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00200" y="397512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362320" y="3137040"/>
            <a:ext cx="1447560" cy="1434960"/>
            <a:chOff x="2362320" y="3137040"/>
            <a:chExt cx="1447560" cy="1434960"/>
          </a:xfrm>
        </p:grpSpPr>
        <p:sp>
          <p:nvSpPr>
            <p:cNvPr id="632" name=""/>
            <p:cNvSpPr/>
            <p:nvPr/>
          </p:nvSpPr>
          <p:spPr>
            <a:xfrm>
              <a:off x="2576160" y="3975120"/>
              <a:ext cx="91404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04760" y="4280040"/>
              <a:ext cx="53316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28800" y="3137040"/>
              <a:ext cx="60912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90560" y="342900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62320" y="3683160"/>
              <a:ext cx="144756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486400" y="2286000"/>
            <a:ext cx="1447920" cy="1434960"/>
            <a:chOff x="5486400" y="2286000"/>
            <a:chExt cx="1447920" cy="1434960"/>
          </a:xfrm>
        </p:grpSpPr>
        <p:sp>
          <p:nvSpPr>
            <p:cNvPr id="638" name=""/>
            <p:cNvSpPr/>
            <p:nvPr/>
          </p:nvSpPr>
          <p:spPr>
            <a:xfrm>
              <a:off x="5700600" y="3124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9200" y="3429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53240" y="228600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15000" y="257796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86400" y="283212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800600" y="2603520"/>
            <a:ext cx="1447920" cy="1434960"/>
            <a:chOff x="4800600" y="2603520"/>
            <a:chExt cx="1447920" cy="1434960"/>
          </a:xfrm>
        </p:grpSpPr>
        <p:sp>
          <p:nvSpPr>
            <p:cNvPr id="644" name=""/>
            <p:cNvSpPr/>
            <p:nvPr/>
          </p:nvSpPr>
          <p:spPr>
            <a:xfrm>
              <a:off x="5014800" y="344160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3400" y="374652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67440" y="260352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289548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00600" y="314964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581280" y="2895480"/>
            <a:ext cx="1447920" cy="1434960"/>
            <a:chOff x="3581280" y="2895480"/>
            <a:chExt cx="1447920" cy="1434960"/>
          </a:xfrm>
        </p:grpSpPr>
        <p:sp>
          <p:nvSpPr>
            <p:cNvPr id="650" name=""/>
            <p:cNvSpPr/>
            <p:nvPr/>
          </p:nvSpPr>
          <p:spPr>
            <a:xfrm>
              <a:off x="3795480" y="373356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4080" y="403848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48120" y="289548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880" y="318744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1280" y="344160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1143000" y="3581280"/>
            <a:ext cx="6453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370400" y="2008080"/>
            <a:ext cx="0" cy="318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83040" y="18907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70400" y="1752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ulated Light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327800" y="357984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29000" y="251316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69000" y="393228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09680" y="35812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3526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73560" y="310032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447920" y="2819160"/>
            <a:ext cx="5867280" cy="15238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274320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251460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91280" y="41846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sor S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021360" y="3792600"/>
            <a:ext cx="422280" cy="53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429000"/>
            <a:ext cx="4800600" cy="3049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63920" y="4632480"/>
            <a:ext cx="19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Modulation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2295000" y="4214880"/>
            <a:ext cx="460440" cy="53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31240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2720" y="412920"/>
            <a:ext cx="81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is composed of impulses. But they are not harmon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46600" y="3595680"/>
            <a:ext cx="1366920" cy="20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73640" y="56991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verlap within the red box sensed by the sen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875200" y="1778040"/>
            <a:ext cx="1527480" cy="9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78520" y="9334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Field copies overlap outside sens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3733920" y="3441600"/>
            <a:ext cx="1447560" cy="1434960"/>
            <a:chOff x="3733920" y="3441600"/>
            <a:chExt cx="1447560" cy="1434960"/>
          </a:xfrm>
        </p:grpSpPr>
        <p:sp>
          <p:nvSpPr>
            <p:cNvPr id="680" name=""/>
            <p:cNvSpPr/>
            <p:nvPr/>
          </p:nvSpPr>
          <p:spPr>
            <a:xfrm>
              <a:off x="3947760" y="4279680"/>
              <a:ext cx="91404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76360" y="4584600"/>
              <a:ext cx="53316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00400" y="3441600"/>
              <a:ext cx="60912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160" y="373356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33920" y="3987720"/>
              <a:ext cx="144756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981080" y="2349360"/>
            <a:ext cx="4648320" cy="38448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403880" y="2867040"/>
            <a:ext cx="1440" cy="2566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21200" y="27907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922120" y="4143240"/>
            <a:ext cx="2963880" cy="1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49920" y="37051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521240" y="2706840"/>
            <a:ext cx="768240" cy="1420560"/>
          </a:xfrm>
          <a:custGeom>
            <a:avLst/>
            <a:gdLst/>
            <a:ahLst/>
            <a:rect l="l" t="t" r="r" b="b"/>
            <a:pathLst>
              <a:path w="1133" h="1912">
                <a:moveTo>
                  <a:pt x="0" y="0"/>
                </a:moveTo>
                <a:cubicBezTo>
                  <a:pt x="473" y="373"/>
                  <a:pt x="947" y="746"/>
                  <a:pt x="1040" y="1065"/>
                </a:cubicBezTo>
                <a:cubicBezTo>
                  <a:pt x="1133" y="1384"/>
                  <a:pt x="645" y="1775"/>
                  <a:pt x="556" y="191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647600" y="2819520"/>
            <a:ext cx="2227320" cy="191916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76640" y="2746440"/>
            <a:ext cx="690480" cy="115092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09800" y="2746440"/>
            <a:ext cx="1996920" cy="84456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943520" y="2746440"/>
            <a:ext cx="920880" cy="172728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23960" y="4238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vered Light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05520" y="2438280"/>
            <a:ext cx="914400" cy="292320"/>
          </a:xfrm>
          <a:prstGeom prst="rect">
            <a:avLst/>
          </a:prstGeom>
          <a:solidFill>
            <a:srgbClr val="008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19920" y="2438280"/>
            <a:ext cx="533160" cy="29232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2438280"/>
            <a:ext cx="609480" cy="29232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2438280"/>
            <a:ext cx="99072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57600" y="2438280"/>
            <a:ext cx="144792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39960" y="1728720"/>
            <a:ext cx="3375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95520" y="1893960"/>
            <a:ext cx="45720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11520" bIns="115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dulation from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36720" y="157320"/>
            <a:ext cx="70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transform of optimal 1D mask pattern is a set of 1D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49480" y="172080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287360" y="2244600"/>
            <a:ext cx="6413760" cy="7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09760" y="172080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7184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3392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9600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66880" y="2665440"/>
            <a:ext cx="70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1D Mask is sum of cos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7600" y="405432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2D mask: Sum of cosines in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96920" y="531180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ngular samples = Number of impulses in Fourier transform of the mask along that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413480" y="3730680"/>
            <a:ext cx="1144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85720" y="2793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2D camera that can capture 4D light fiel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06680" y="60818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05520" y="5246640"/>
            <a:ext cx="31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showing refocusing from 4D ligh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229440" y="3005280"/>
            <a:ext cx="2533680" cy="20113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270480" y="1030320"/>
            <a:ext cx="24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HAS SLOW FRAME RATE FOR BETTER VISUALIZATION OF REFOCUSSING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11240" y="1073160"/>
            <a:ext cx="58640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6375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36440" y="952560"/>
            <a:ext cx="5840640" cy="47800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14280" y="15084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high resolution image of focused parts of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8800" y="5870520"/>
            <a:ext cx="548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esolution image of in focus parts of the sc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968720" y="2814480"/>
            <a:ext cx="621000" cy="517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67280" y="2052720"/>
            <a:ext cx="1432080" cy="75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956120" y="3309840"/>
            <a:ext cx="145728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421320" y="2062080"/>
            <a:ext cx="20732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3920" y="1500120"/>
            <a:ext cx="4830840" cy="463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54560" y="1527120"/>
            <a:ext cx="3889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 filter can attenuate each ray independ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elective both in space and in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lectivity of a ray filter can be further enhanced with wavelength and control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y-filter can be programmed to achieve any Ray Modulation Function (RM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26040" y="1292400"/>
            <a:ext cx="3932280" cy="46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32040" y="357120"/>
            <a:ext cx="727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nly a mask placed inside the cam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ditional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52320" y="2739960"/>
            <a:ext cx="7837560" cy="2187720"/>
            <a:chOff x="652320" y="2739960"/>
            <a:chExt cx="7837560" cy="2187720"/>
          </a:xfrm>
        </p:grpSpPr>
        <p:sp>
          <p:nvSpPr>
            <p:cNvPr id="729" name=""/>
            <p:cNvSpPr/>
            <p:nvPr/>
          </p:nvSpPr>
          <p:spPr>
            <a:xfrm>
              <a:off x="4598640" y="31003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037880" y="31003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93680" y="35575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598640" y="42224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14200" y="35575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4524840" y="3103200"/>
              <a:ext cx="151200" cy="1770120"/>
              <a:chOff x="4524840" y="3103200"/>
              <a:chExt cx="151200" cy="177012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4524840" y="310284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4840" y="311472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524120" y="3088800"/>
              <a:ext cx="151200" cy="1770120"/>
              <a:chOff x="4524120" y="3088800"/>
              <a:chExt cx="151200" cy="1770120"/>
            </a:xfrm>
          </p:grpSpPr>
          <p:sp>
            <p:nvSpPr>
              <p:cNvPr id="738" name=""/>
              <p:cNvSpPr/>
              <p:nvPr/>
            </p:nvSpPr>
            <p:spPr>
              <a:xfrm flipH="1" flipV="1">
                <a:off x="4524120" y="308844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524120" y="310032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933720" y="27399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032680" y="31068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2320" y="27399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52280" y="31003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6435720" y="2755800"/>
              <a:ext cx="744480" cy="2055600"/>
              <a:chOff x="6435720" y="2755800"/>
              <a:chExt cx="744480" cy="20556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6831000" y="3137040"/>
                <a:ext cx="0" cy="1674360"/>
                <a:chOff x="6831000" y="3137040"/>
                <a:chExt cx="0" cy="16743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831000" y="313704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831000" y="338796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831000" y="46440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831000" y="40579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831000" y="37231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831000" y="43092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6435720" y="275580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575480" y="27558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93760" y="3186000"/>
            <a:ext cx="29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in of the cosin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878040" y="1339920"/>
            <a:ext cx="1144440" cy="11635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 rot="16073400">
            <a:off x="1100880" y="2445480"/>
            <a:ext cx="250560" cy="439560"/>
          </a:xfrm>
          <a:custGeom>
            <a:avLst/>
            <a:gdLst>
              <a:gd name="textAreaLeft" fmla="*/ 160200 w 250560"/>
              <a:gd name="textAreaRight" fmla="*/ 250560 w 25056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958680" y="2700360"/>
            <a:ext cx="77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8920" y="4772160"/>
            <a:ext cx="79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is the sum of cosines with four harmonics. Plot shows the cosines. Since the physical mask cannot have negative values, a constant needs to b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3586320" y="946080"/>
            <a:ext cx="45828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10960" y="1073160"/>
            <a:ext cx="5864400" cy="47116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85720" y="2793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98640" y="57783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211800" y="474984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om in showing the effect of cosin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6288120" y="988920"/>
            <a:ext cx="2268360" cy="306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65" name=""/>
          <p:cNvSpPr/>
          <p:nvPr/>
        </p:nvSpPr>
        <p:spPr>
          <a:xfrm flipV="1">
            <a:off x="7588080" y="2992320"/>
            <a:ext cx="614520" cy="18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55720" y="1198440"/>
            <a:ext cx="879480" cy="106200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5111640" y="1022400"/>
            <a:ext cx="3041640" cy="246204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585720" y="1047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4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1280" y="64296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5400000">
            <a:off x="5451840" y="4072680"/>
            <a:ext cx="1009800" cy="646200"/>
          </a:xfrm>
          <a:prstGeom prst="rightArrow">
            <a:avLst>
              <a:gd name="adj1" fmla="val 50000"/>
              <a:gd name="adj2" fmla="val 390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662360" y="63324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ourier Transfor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*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09960" y="2254320"/>
            <a:ext cx="7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781440" y="1792440"/>
            <a:ext cx="1009800" cy="645840"/>
          </a:xfrm>
          <a:prstGeom prst="rightArrow">
            <a:avLst>
              <a:gd name="adj1" fmla="val 50000"/>
              <a:gd name="adj2" fmla="val 390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59200" y="5124600"/>
            <a:ext cx="39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ape 2D tiles into 4D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22840" y="553068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0800000">
            <a:off x="3522240" y="5000760"/>
            <a:ext cx="1009800" cy="645840"/>
          </a:xfrm>
          <a:prstGeom prst="rightArrow">
            <a:avLst>
              <a:gd name="adj1" fmla="val 50000"/>
              <a:gd name="adj2" fmla="val 390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54560" y="5570640"/>
            <a:ext cx="11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D I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47720" y="5094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51024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29320" y="37418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*9=81 such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6770520" y="2360520"/>
            <a:ext cx="681120" cy="13716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5972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510240" y="188280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03400" y="545148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36400" y="1058760"/>
            <a:ext cx="29181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5164200" y="1050840"/>
            <a:ext cx="2938320" cy="23781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585720" y="1047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cusing: Take slices of 4D Fourier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6440760" y="4132800"/>
            <a:ext cx="1009440" cy="646200"/>
          </a:xfrm>
          <a:prstGeom prst="rightArrow">
            <a:avLst>
              <a:gd name="adj1" fmla="val 50000"/>
              <a:gd name="adj2" fmla="val 3905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87920" y="64296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ourier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70200" y="2279520"/>
            <a:ext cx="7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40240" y="1817640"/>
            <a:ext cx="1009440" cy="646200"/>
          </a:xfrm>
          <a:prstGeom prst="rightArrow">
            <a:avLst>
              <a:gd name="adj1" fmla="val 50000"/>
              <a:gd name="adj2" fmla="val 3905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95760" y="4981680"/>
            <a:ext cx="289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ape 2D tiles into 4D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0800000">
            <a:off x="3916440" y="5008680"/>
            <a:ext cx="1009440" cy="645840"/>
          </a:xfrm>
          <a:prstGeom prst="rightArrow">
            <a:avLst>
              <a:gd name="adj1" fmla="val 50000"/>
              <a:gd name="adj2" fmla="val 390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48040" y="560556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2D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0800000">
            <a:off x="2668680" y="4981680"/>
            <a:ext cx="1009440" cy="645840"/>
          </a:xfrm>
          <a:prstGeom prst="rightArrow">
            <a:avLst>
              <a:gd name="adj1" fmla="val 50000"/>
              <a:gd name="adj2" fmla="val 390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27280" y="5537160"/>
            <a:ext cx="11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I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1024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5972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10240" y="188280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15800" y="4240080"/>
            <a:ext cx="2171880" cy="1724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431640" y="5910120"/>
            <a:ext cx="21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 refocuse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4400" y="558180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5000" y="57636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47560" y="1073160"/>
            <a:ext cx="286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Demonstrating Paral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486240" y="2814480"/>
            <a:ext cx="2171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600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ct Depth and All-in-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4840" y="444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ed Refocu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816120" y="2230560"/>
            <a:ext cx="2171520" cy="17240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 flipV="1">
            <a:off x="3251160" y="2349000"/>
            <a:ext cx="23083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164040" y="3324240"/>
            <a:ext cx="235080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5551560" y="1362240"/>
            <a:ext cx="2171520" cy="172404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5565600" y="3944880"/>
            <a:ext cx="2171880" cy="172404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7620120" y="2003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57960" y="581976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5760" y="201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8280" y="313524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6375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8880" y="1652760"/>
            <a:ext cx="2171520" cy="17236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660240" y="4506840"/>
            <a:ext cx="2171880" cy="172404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3"/>
          <a:stretch/>
        </p:blipFill>
        <p:spPr>
          <a:xfrm>
            <a:off x="3754440" y="1963800"/>
            <a:ext cx="5065560" cy="38257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95440" y="640224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44720" y="127800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596960" y="3745080"/>
            <a:ext cx="246240" cy="24588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1726920" y="3976200"/>
            <a:ext cx="284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712880" y="33814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843200" y="3846240"/>
            <a:ext cx="190188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51200" y="588636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67" fill="hold"/>
                                        <p:tgtEl>
                                          <p:spTgt spid="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od Refocu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336600" y="1595520"/>
            <a:ext cx="3746520" cy="30956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784080" y="4906800"/>
            <a:ext cx="34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ured Modula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325760" y="3236760"/>
            <a:ext cx="140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84800" y="4470480"/>
            <a:ext cx="22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cussing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5994360" y="2381400"/>
            <a:ext cx="2257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338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ct Depth and All-in-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4840" y="444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ed Refocu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251160" y="2349000"/>
            <a:ext cx="23083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64040" y="3324240"/>
            <a:ext cx="235080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94720" y="19605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23080" y="586260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425760" y="201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488280" y="313524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730080" y="2338560"/>
            <a:ext cx="2257560" cy="18572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5546880" y="1268280"/>
            <a:ext cx="2257200" cy="18576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5546880" y="3981600"/>
            <a:ext cx="2257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33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8040" y="1776240"/>
            <a:ext cx="6649920" cy="1854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065120" y="-463680"/>
            <a:ext cx="87480" cy="5805720"/>
          </a:xfrm>
          <a:prstGeom prst="rect">
            <a:avLst/>
          </a:prstGeom>
          <a:solidFill>
            <a:srgbClr val="ccff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08400"/>
            <a:ext cx="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4664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516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1808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6240" y="24177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070160" y="1355400"/>
            <a:ext cx="220680" cy="3313440"/>
          </a:xfrm>
          <a:custGeom>
            <a:avLst/>
            <a:gdLst>
              <a:gd name="textAreaLeft" fmla="*/ 0 w 220680"/>
              <a:gd name="textAreaRight" fmla="*/ 79560 w 220680"/>
              <a:gd name="textAreaTop" fmla="*/ 86400 h 3313440"/>
              <a:gd name="textAreaBottom" fmla="*/ 3227040 h 331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81640" y="1895400"/>
            <a:ext cx="761760" cy="522360"/>
            <a:chOff x="5381640" y="1895400"/>
            <a:chExt cx="761760" cy="522360"/>
          </a:xfrm>
        </p:grpSpPr>
        <p:sp>
          <p:nvSpPr>
            <p:cNvPr id="80" name=""/>
            <p:cNvSpPr/>
            <p:nvPr/>
          </p:nvSpPr>
          <p:spPr>
            <a:xfrm flipH="1">
              <a:off x="5838480" y="204624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803560" y="192420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7480" y="189540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2880" y="192564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81640" y="203832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108160" y="23986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14760" y="1876320"/>
            <a:ext cx="761760" cy="522360"/>
            <a:chOff x="4514760" y="1876320"/>
            <a:chExt cx="761760" cy="522360"/>
          </a:xfrm>
        </p:grpSpPr>
        <p:sp>
          <p:nvSpPr>
            <p:cNvPr id="87" name=""/>
            <p:cNvSpPr/>
            <p:nvPr/>
          </p:nvSpPr>
          <p:spPr>
            <a:xfrm flipH="1">
              <a:off x="4971600" y="20271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936680" y="19051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90600" y="18763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16000" y="19065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4760" y="20192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728880" y="1890720"/>
            <a:ext cx="761760" cy="522360"/>
            <a:chOff x="3728880" y="1890720"/>
            <a:chExt cx="761760" cy="522360"/>
          </a:xfrm>
        </p:grpSpPr>
        <p:sp>
          <p:nvSpPr>
            <p:cNvPr id="93" name=""/>
            <p:cNvSpPr/>
            <p:nvPr/>
          </p:nvSpPr>
          <p:spPr>
            <a:xfrm flipH="1">
              <a:off x="4185720" y="20415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150800" y="19195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04720" y="18907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30120" y="19209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8880" y="20336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943720" y="1862280"/>
            <a:ext cx="761400" cy="522000"/>
            <a:chOff x="2943720" y="1862280"/>
            <a:chExt cx="761400" cy="522000"/>
          </a:xfrm>
        </p:grpSpPr>
        <p:sp>
          <p:nvSpPr>
            <p:cNvPr id="99" name=""/>
            <p:cNvSpPr/>
            <p:nvPr/>
          </p:nvSpPr>
          <p:spPr>
            <a:xfrm flipH="1">
              <a:off x="3400560" y="2012760"/>
              <a:ext cx="304560" cy="3474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366000" y="1890720"/>
              <a:ext cx="188640" cy="432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9560" y="1862280"/>
              <a:ext cx="0" cy="5220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45680" y="1892160"/>
              <a:ext cx="145800" cy="4489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43720" y="2004840"/>
              <a:ext cx="306000" cy="3614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85920" y="1890720"/>
            <a:ext cx="761760" cy="522360"/>
            <a:chOff x="2185920" y="1890720"/>
            <a:chExt cx="761760" cy="522360"/>
          </a:xfrm>
        </p:grpSpPr>
        <p:sp>
          <p:nvSpPr>
            <p:cNvPr id="105" name=""/>
            <p:cNvSpPr/>
            <p:nvPr/>
          </p:nvSpPr>
          <p:spPr>
            <a:xfrm flipH="1">
              <a:off x="2642760" y="20415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607840" y="19195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1760" y="18907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87160" y="19209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5920" y="20336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113360" y="1913040"/>
            <a:ext cx="1440" cy="8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4960" y="1877400"/>
            <a:ext cx="26172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81240" y="2023920"/>
            <a:ext cx="58248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776480" y="1946160"/>
            <a:ext cx="322200" cy="8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16280" y="2041560"/>
            <a:ext cx="62388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5360" y="2062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73560" y="29923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89240" y="2743200"/>
            <a:ext cx="5592240" cy="146160"/>
            <a:chOff x="1389240" y="2743200"/>
            <a:chExt cx="5592240" cy="146160"/>
          </a:xfrm>
        </p:grpSpPr>
        <p:sp>
          <p:nvSpPr>
            <p:cNvPr id="118" name=""/>
            <p:cNvSpPr/>
            <p:nvPr/>
          </p:nvSpPr>
          <p:spPr>
            <a:xfrm rot="5400000">
              <a:off x="4106520" y="959400"/>
              <a:ext cx="146160" cy="371340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3713400"/>
                <a:gd name="textAreaBottom" fmla="*/ 3706560 h 3713400"/>
              </a:gdLst>
              <a:ahLst/>
              <a:rect l="textAreaLeft" t="textAreaTop" r="textAreaRight" b="textAreaBottom"/>
              <a:pathLst>
                <a:path w="21600" h="547483">
                  <a:moveTo>
                    <a:pt x="3600" y="0"/>
                  </a:moveTo>
                  <a:arcTo wR="3600" hR="3600" stAng="16200000" swAng="-5400000"/>
                  <a:lnTo>
                    <a:pt x="0" y="543883"/>
                  </a:lnTo>
                  <a:arcTo wR="3600" hR="3600" stAng="10800000" swAng="-5400000"/>
                  <a:lnTo>
                    <a:pt x="18000" y="547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486072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11552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774800" y="2357640"/>
              <a:ext cx="146160" cy="91728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917280"/>
                <a:gd name="textAreaBottom" fmla="*/ 910440 h 917280"/>
              </a:gdLst>
              <a:ahLst/>
              <a:rect l="textAreaLeft" t="textAreaTop" r="textAreaRight" b="textAreaBottom"/>
              <a:pathLst>
                <a:path w="21600" h="135279">
                  <a:moveTo>
                    <a:pt x="3600" y="0"/>
                  </a:moveTo>
                  <a:arcTo wR="3600" hR="3600" stAng="16200000" swAng="-5400000"/>
                  <a:lnTo>
                    <a:pt x="0" y="131679"/>
                  </a:lnTo>
                  <a:arcTo wR="3600" hR="3600" stAng="10800000" swAng="-5400000"/>
                  <a:lnTo>
                    <a:pt x="18000" y="1352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37248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262908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188388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49760" y="2357640"/>
              <a:ext cx="146160" cy="91728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917280"/>
                <a:gd name="textAreaBottom" fmla="*/ 910440 h 917280"/>
              </a:gdLst>
              <a:ahLst/>
              <a:rect l="textAreaLeft" t="textAreaTop" r="textAreaRight" b="textAreaBottom"/>
              <a:pathLst>
                <a:path w="21600" h="135279">
                  <a:moveTo>
                    <a:pt x="3600" y="0"/>
                  </a:moveTo>
                  <a:arcTo wR="3600" hR="3600" stAng="16200000" swAng="-5400000"/>
                  <a:lnTo>
                    <a:pt x="0" y="131679"/>
                  </a:lnTo>
                  <a:arcTo wR="3600" hR="3600" stAng="10800000" swAng="-5400000"/>
                  <a:lnTo>
                    <a:pt x="18000" y="1352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560376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634716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231560" y="2819520"/>
            <a:ext cx="509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24280" y="2809800"/>
            <a:ext cx="509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87880" y="299088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302160" y="2781360"/>
            <a:ext cx="176400" cy="395280"/>
          </a:xfrm>
          <a:custGeom>
            <a:avLst/>
            <a:gdLst>
              <a:gd name="textAreaLeft" fmla="*/ 0 w 176400"/>
              <a:gd name="textAreaRight" fmla="*/ 63720 w 176400"/>
              <a:gd name="textAreaTop" fmla="*/ 10080 h 395280"/>
              <a:gd name="textAreaBottom" fmla="*/ 3852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-filter LF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1560" y="3817800"/>
            <a:ext cx="7315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capture a 100 X 100 X 5 X 5 light field using a 500 X 500 pixel camera. Here is a trivial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ivide the sensor pixels into 5X5 pixel groups (called macro-pixels as shown in the figure abo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ay-filter to selectively allow rays to pass through such that a different angular direction is sampled at each sensor pixel. The ray-filter blocks the other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efficiency can be further improved by doing Hadamard 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95440" y="640224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44720" y="127800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596960" y="3745080"/>
            <a:ext cx="246240" cy="24588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704960" y="3976200"/>
            <a:ext cx="22320" cy="4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12880" y="33814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843200" y="3846240"/>
            <a:ext cx="248112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639720" y="4484520"/>
            <a:ext cx="2257560" cy="185760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462276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"/>
          <a:stretch/>
        </p:blipFill>
        <p:spPr>
          <a:xfrm>
            <a:off x="662040" y="1625760"/>
            <a:ext cx="2257200" cy="185724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281560" y="564192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34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miya Data Refocussing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957400" y="2671920"/>
            <a:ext cx="3229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1600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cotch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Ambu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irl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irl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ocus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-filter is a hypothetical device. We do not know of any material that can provide selective attenuation in both space and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Issues with ray-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4368960"/>
            <a:ext cx="8051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AN WE GET A SIMILAR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JUST MASKS AS ATTENUA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52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holes based Light-Field Cam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holes based Light Field Cam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9520" y="1600200"/>
            <a:ext cx="5067360" cy="4468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16720" y="2089080"/>
            <a:ext cx="2976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lens array replaced by array of pinh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due to adjacent pinholes do not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ight Inefficient – Most light is blocked by Mask. Very little light reaches the sensor. Very Low SN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59480" y="2017800"/>
            <a:ext cx="3090960" cy="384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63400" y="2739960"/>
            <a:ext cx="8016840" cy="2595240"/>
            <a:chOff x="563400" y="2739960"/>
            <a:chExt cx="8016840" cy="2595240"/>
          </a:xfrm>
        </p:grpSpPr>
        <p:sp>
          <p:nvSpPr>
            <p:cNvPr id="143" name=""/>
            <p:cNvSpPr/>
            <p:nvPr/>
          </p:nvSpPr>
          <p:spPr>
            <a:xfrm>
              <a:off x="4509720" y="31003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948960" y="31003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4760" y="35575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09720" y="42224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25280" y="35575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437000" y="3080880"/>
              <a:ext cx="151560" cy="1784520"/>
              <a:chOff x="4437000" y="3080880"/>
              <a:chExt cx="151560" cy="17845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437360" y="3095280"/>
                <a:ext cx="151200" cy="1770120"/>
                <a:chOff x="4437360" y="3095280"/>
                <a:chExt cx="151200" cy="1770120"/>
              </a:xfrm>
            </p:grpSpPr>
            <p:sp>
              <p:nvSpPr>
                <p:cNvPr id="150" name=""/>
                <p:cNvSpPr/>
                <p:nvPr/>
              </p:nvSpPr>
              <p:spPr>
                <a:xfrm flipV="1">
                  <a:off x="4437360" y="30949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37360" y="31068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37000" y="3080880"/>
                <a:ext cx="151200" cy="1770120"/>
                <a:chOff x="4437000" y="3080880"/>
                <a:chExt cx="151200" cy="1770120"/>
              </a:xfrm>
            </p:grpSpPr>
            <p:sp>
              <p:nvSpPr>
                <p:cNvPr id="153" name=""/>
                <p:cNvSpPr/>
                <p:nvPr/>
              </p:nvSpPr>
              <p:spPr>
                <a:xfrm flipH="1" flipV="1">
                  <a:off x="4437000" y="30805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437000" y="30924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3844800" y="27399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31068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400" y="27399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963360" y="31003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8000" y="2755800"/>
              <a:ext cx="136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D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4560" y="4807080"/>
              <a:ext cx="1623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360" rIns="162360" tIns="81000" bIns="81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22520"/>
                  <a:tab algn="l" pos="3244680"/>
                  <a:tab algn="l" pos="4867200"/>
                  <a:tab algn="l" pos="6489720"/>
                  <a:tab algn="l" pos="8112240"/>
                  <a:tab algn="l" pos="9734400"/>
                </a:tabLst>
              </a:pPr>
              <a:r>
                <a:rPr b="0" i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81640" y="4743360"/>
              <a:ext cx="12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i="1" lang="en-US" sz="2400" spc="-1" strike="noStrike">
                  <a:solidFill>
                    <a:srgbClr val="66ccff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66ccff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84280" y="357120"/>
            <a:ext cx="79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lane parameterization of 2D light field l(x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urier domain, the sensor image corresponds to a slice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49200" y="1550880"/>
            <a:ext cx="6645240" cy="3305160"/>
            <a:chOff x="1249200" y="1550880"/>
            <a:chExt cx="6645240" cy="3305160"/>
          </a:xfrm>
        </p:grpSpPr>
        <p:sp>
          <p:nvSpPr>
            <p:cNvPr id="165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5440" y="191448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13120" y="5018040"/>
            <a:ext cx="51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Light Field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5:10:31Z</dcterms:created>
  <dc:creator>Ashok Veeraraghavan</dc:creator>
  <dc:description/>
  <dc:language>en-US</dc:language>
  <cp:lastModifiedBy>Ashok Veeraraghavan</cp:lastModifiedBy>
  <dcterms:modified xsi:type="dcterms:W3CDTF">2008-04-07T21:39:22Z</dcterms:modified>
  <cp:revision>43</cp:revision>
  <dc:subject/>
  <dc:title>Slide 1</dc:title>
</cp:coreProperties>
</file>